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07447-2499-4F1B-9776-15B37A3A9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7239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442520" y="4343400"/>
            <a:ext cx="7239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ACEC4-06C8-4C13-A17D-E594B00A9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523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442520" y="434340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52320" y="434340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8DDE2-7735-4DB7-9D08-EE590EA87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0160" y="342756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37800" y="342756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442520" y="434340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0160" y="434340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37800" y="434340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E85AA-90E9-4D86-8B80-874456559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9372D-96D1-4CE9-8511-476D19B1F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295CB-3002-4B64-87F9-D0054555F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561A7-8DC3-459C-921F-DEBED9E1F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3532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52320" y="3427560"/>
            <a:ext cx="3532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A65AA-1FBA-46C9-9FA7-9CBB796CB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8C4CA-B4EA-44AA-9667-C1BAAF352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442520" y="985320"/>
            <a:ext cx="7239240" cy="669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9E23C-0011-4301-AAAA-FE3BEF4D1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52320" y="3427560"/>
            <a:ext cx="3532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442520" y="434340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2BF81-DE18-49FC-A0CB-F2ECCDE2F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921F6-53D1-49EA-89E4-0119A70C0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3532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523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52320" y="434340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8DA55-E465-4D1A-97B9-571A19CE8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523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442520" y="4343400"/>
            <a:ext cx="7239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A91C4-FAE9-4A9B-ACE7-955609352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7239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442520" y="4343400"/>
            <a:ext cx="7239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DF522-13A8-4A21-823D-86F095F9B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523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442520" y="434340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52320" y="434340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362FE-BEB7-4E31-8450-C912287F2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90160" y="342756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37800" y="342756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442520" y="434340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90160" y="434340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37800" y="434340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0008D-25DE-4141-A90A-16BE7C76C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6A5B4-D51E-47F8-B683-0BDB94AE6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3532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52320" y="3427560"/>
            <a:ext cx="3532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F1CAA-F825-44EE-818D-753603324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8E73B-9497-4A8C-89BD-1154B1CDA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442520" y="985320"/>
            <a:ext cx="7239240" cy="669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B73D5-515B-4E61-92E2-49073CE59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320" y="3427560"/>
            <a:ext cx="3532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442520" y="434340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48372-828E-4B55-AB73-10E38D7D3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3532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23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52320" y="434340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5D1DC-9B7F-4B0F-828D-97AF9AC48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523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442520" y="4343400"/>
            <a:ext cx="7239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63F5E-B971-439C-8A3F-BA3F4D826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A611D-A6EE-4527-80BD-4004B26B39F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51DCC-BF79-4A0D-AF48-3B7885484F3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Beteiligung von Gläubigern bei der Verwalterauswahl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ktuelle Lage und Ausblick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RiAG Neubert                                                                      9/20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2.1 Stand des Gesetzgebungsverfahrens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Verdana"/>
              </a:rPr>
              <a:t>Regierungsentwurf vom 4.3.2011,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Verdana"/>
              </a:rPr>
              <a:t>teils ablehnende Stellungnahme des Bundesrates vom 15.4.2011,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Verdana"/>
              </a:rPr>
              <a:t>Gegenäußerung der BReg vom 21.4.2011,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2500" spc="-1" strike="noStrike">
                <a:solidFill>
                  <a:srgbClr val="000000"/>
                </a:solidFill>
                <a:latin typeface="Verdana"/>
              </a:rPr>
              <a:t>Gesetzesentwurf vom 4.5.2011 (BT-Drucksache 17/5712), in BT eingebracht</a:t>
            </a:r>
            <a:br>
              <a:rPr sz="2500"/>
            </a:br>
            <a:r>
              <a:rPr b="0" lang="de-DE" sz="2500" spc="-1" strike="noStrike">
                <a:solidFill>
                  <a:srgbClr val="000000"/>
                </a:solidFill>
                <a:latin typeface="Verdana"/>
              </a:rPr>
              <a:t>am 17.5.2011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Verdana"/>
              </a:rPr>
              <a:t>2. u. 3. Lesung im BT wurden auf Ende Oktober und der abschließender Durchgang im Bundesrat auf Ende November verschoben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iAG Neubert                                                                      9/20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2.2 Geplante Änderungen zur Verwalterbestellung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55280" y="1557000"/>
            <a:ext cx="79311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100" spc="-1" strike="noStrike">
                <a:solidFill>
                  <a:srgbClr val="000000"/>
                </a:solidFill>
                <a:latin typeface="Verdana"/>
              </a:rPr>
              <a:t>2.2.1 </a:t>
            </a:r>
            <a:r>
              <a:rPr b="0" lang="de-DE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2100" spc="-1" strike="noStrike">
                <a:solidFill>
                  <a:srgbClr val="000000"/>
                </a:solidFill>
                <a:latin typeface="Verdana"/>
              </a:rPr>
              <a:t>Direkte Beteiligungsrechte</a:t>
            </a:r>
            <a:br>
              <a:rPr sz="2100"/>
            </a:b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100" spc="-1" strike="noStrike">
                <a:solidFill>
                  <a:srgbClr val="000000"/>
                </a:solidFill>
                <a:latin typeface="Verdana"/>
              </a:rPr>
              <a:t>Keine Änderungen zur jetzigen Lage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100" spc="-1" strike="noStrike">
                <a:solidFill>
                  <a:srgbClr val="000000"/>
                </a:solidFill>
                <a:latin typeface="Verdana"/>
              </a:rPr>
              <a:t>In § 56 InsO weiterhin kein eigenes Antragsrecht der Gläubiger hinsichtlich eines bestimmten Verwalters vorgesehen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100" spc="-1" strike="noStrike">
                <a:solidFill>
                  <a:srgbClr val="000000"/>
                </a:solidFill>
                <a:latin typeface="Verdana"/>
              </a:rPr>
              <a:t>Auch ein Beschwerderecht wird nicht eingeräumt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100" spc="-1" strike="noStrike">
                <a:solidFill>
                  <a:srgbClr val="000000"/>
                </a:solidFill>
                <a:latin typeface="Verdana"/>
              </a:rPr>
              <a:t>§ 56 Abs. 1 S. 3 Ziff. 1 InsO n.F. stellt nur klar, dass Gläubigervorschlag unschädlich ist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100" spc="-1" strike="noStrike">
                <a:solidFill>
                  <a:srgbClr val="000000"/>
                </a:solidFill>
                <a:latin typeface="Verdana"/>
              </a:rPr>
              <a:t>Ziff. 3 auslegungsfähig: Mitwirkung an Plan nur unschädlich, wenn </a:t>
            </a:r>
            <a:r>
              <a:rPr b="0" lang="de-DE" sz="2100" spc="-1" strike="noStrike" u="sng">
                <a:solidFill>
                  <a:srgbClr val="000000"/>
                </a:solidFill>
                <a:uFillTx/>
                <a:latin typeface="Verdana"/>
              </a:rPr>
              <a:t>alle</a:t>
            </a:r>
            <a:r>
              <a:rPr b="0" lang="de-DE" sz="2100" spc="-1" strike="noStrike">
                <a:solidFill>
                  <a:srgbClr val="000000"/>
                </a:solidFill>
                <a:latin typeface="Verdana"/>
              </a:rPr>
              <a:t> Beteiligten eingebunden sind? Berufsrechtliche Zulässigkeit?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100" spc="-1" strike="noStrike">
                <a:solidFill>
                  <a:srgbClr val="000000"/>
                </a:solidFill>
                <a:latin typeface="Verdana"/>
              </a:rPr>
              <a:t>§ 57 InsO (Abwahlrecht) wird nicht geändert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iAG Neubert                                                                      9/20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2.2.2 Mittelbare Beteiligungsmöglichkeiten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900" spc="-1" strike="noStrike">
                <a:solidFill>
                  <a:srgbClr val="000000"/>
                </a:solidFill>
                <a:latin typeface="Verdana"/>
              </a:rPr>
              <a:t>Eigene Rechte eines vorläufigen Gläubigerausschusses gem. §§ 22a, 56 Abs. 2 und 3 InsO n.F.:</a:t>
            </a:r>
            <a:br>
              <a:rPr sz="2900"/>
            </a:br>
            <a:r>
              <a:rPr b="0" lang="de-DE" sz="2900" spc="-1" strike="noStrike">
                <a:solidFill>
                  <a:srgbClr val="000000"/>
                </a:solidFill>
                <a:latin typeface="Verdana"/>
              </a:rPr>
              <a:t>- Anhörungsrecht,</a:t>
            </a:r>
            <a:br>
              <a:rPr sz="2900"/>
            </a:br>
            <a:r>
              <a:rPr b="0" lang="de-DE" sz="2900" spc="-1" strike="noStrike">
                <a:solidFill>
                  <a:srgbClr val="000000"/>
                </a:solidFill>
                <a:latin typeface="Verdana"/>
              </a:rPr>
              <a:t>- Anforderungsprofil muss </a:t>
            </a:r>
            <a:br>
              <a:rPr sz="2900"/>
            </a:br>
            <a:r>
              <a:rPr b="0" lang="de-DE" sz="2900" spc="-1" strike="noStrike">
                <a:solidFill>
                  <a:srgbClr val="000000"/>
                </a:solidFill>
                <a:latin typeface="Verdana"/>
              </a:rPr>
              <a:t>  berücksichtigt werden,</a:t>
            </a:r>
            <a:br>
              <a:rPr sz="2900"/>
            </a:br>
            <a:r>
              <a:rPr b="0" lang="de-DE" sz="2900" spc="-1" strike="noStrike">
                <a:solidFill>
                  <a:srgbClr val="000000"/>
                </a:solidFill>
                <a:latin typeface="Verdana"/>
              </a:rPr>
              <a:t>- einstimmiger Vorschlag eines be-</a:t>
            </a:r>
            <a:br>
              <a:rPr sz="2900"/>
            </a:br>
            <a:r>
              <a:rPr b="0" lang="de-DE" sz="2900" spc="-1" strike="noStrike">
                <a:solidFill>
                  <a:srgbClr val="000000"/>
                </a:solidFill>
                <a:latin typeface="Verdana"/>
              </a:rPr>
              <a:t>  stimmten Verwalters ist bindend. 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iAG Neubert                                                                      9/20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Weitere mittelbare Beteiligungsmöglichkeiten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Verdana"/>
              </a:rPr>
              <a:t>„</a:t>
            </a:r>
            <a:r>
              <a:rPr b="0" lang="de-DE" sz="2500" spc="-1" strike="noStrike">
                <a:solidFill>
                  <a:srgbClr val="000000"/>
                </a:solidFill>
                <a:latin typeface="Verdana"/>
              </a:rPr>
              <a:t>Schutzschirmverfahren“ nach § 270 b InsO n.F. gibt </a:t>
            </a:r>
            <a:r>
              <a:rPr b="0" lang="de-DE" sz="2500" spc="-1" strike="noStrike" u="sng">
                <a:solidFill>
                  <a:srgbClr val="000000"/>
                </a:solidFill>
                <a:uFillTx/>
                <a:latin typeface="Verdana"/>
              </a:rPr>
              <a:t>Schuldner</a:t>
            </a:r>
            <a:r>
              <a:rPr b="0" lang="de-DE" sz="2500" spc="-1" strike="noStrike">
                <a:solidFill>
                  <a:srgbClr val="000000"/>
                </a:solidFill>
                <a:latin typeface="Verdana"/>
              </a:rPr>
              <a:t> ein Auswahlrecht für vorläufigen Sachwalter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Verdana"/>
              </a:rPr>
              <a:t>Gericht kann gem. §§ 270 b Abs. 2 InsO n.F. auch auch einen vorläufigen Gläubigerausschuss nach § 22 a InsO n.F. bestellen. Fraglich ist, ob dieser auch in die Bestellung des vorläufigen Sachwalters eingebunden ist; § 274 Abs. 1 InsO verweist weiterhin auf § 56 InsO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iAG Neubert                                                                      9/20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2.3 Folgen für die Praxi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26560" y="1827360"/>
            <a:ext cx="831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900" spc="-1" strike="noStrike">
                <a:solidFill>
                  <a:srgbClr val="000000"/>
                </a:solidFill>
                <a:latin typeface="Verdana"/>
              </a:rPr>
              <a:t>Einzelne Gläubiger haben weiterhin keine Möglichkeit, bestimmte Verwalter zu bestimmen,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900" spc="-1" strike="noStrike">
                <a:solidFill>
                  <a:srgbClr val="000000"/>
                </a:solidFill>
                <a:latin typeface="Verdana"/>
              </a:rPr>
              <a:t>informelle und mittelbare Einflussmög-lichkeiten werden deutlich gestärkt:</a:t>
            </a:r>
            <a:br>
              <a:rPr sz="2900"/>
            </a:br>
            <a:r>
              <a:rPr b="0" lang="de-DE" sz="2900" spc="-1" strike="noStrike">
                <a:solidFill>
                  <a:srgbClr val="000000"/>
                </a:solidFill>
                <a:latin typeface="Verdana"/>
              </a:rPr>
              <a:t>- durch Einfluss auf Schuldner (§ 270 </a:t>
            </a:r>
            <a:br>
              <a:rPr sz="2900"/>
            </a:br>
            <a:r>
              <a:rPr b="0" lang="de-DE" sz="2900" spc="-1" strike="noStrike">
                <a:solidFill>
                  <a:srgbClr val="000000"/>
                </a:solidFill>
                <a:latin typeface="Verdana"/>
              </a:rPr>
              <a:t>  Abs. 3 Ziff. 3 und 4 InsO n.F.!)</a:t>
            </a:r>
            <a:br>
              <a:rPr sz="2900"/>
            </a:br>
            <a:r>
              <a:rPr b="0" lang="de-DE" sz="2900" spc="-1" strike="noStrike">
                <a:solidFill>
                  <a:srgbClr val="000000"/>
                </a:solidFill>
                <a:latin typeface="Verdana"/>
              </a:rPr>
              <a:t>  mittelbar Einfluss hinsichtlich </a:t>
            </a:r>
            <a:br>
              <a:rPr sz="2900"/>
            </a:br>
            <a:r>
              <a:rPr b="0" lang="de-DE" sz="2900" spc="-1" strike="noStrike">
                <a:solidFill>
                  <a:srgbClr val="000000"/>
                </a:solidFill>
                <a:latin typeface="Verdana"/>
              </a:rPr>
              <a:t>  vorläufigem Sachwalter,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iAG Neubert                                                                      9/20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2900" spc="-1" strike="noStrike">
                <a:solidFill>
                  <a:srgbClr val="000000"/>
                </a:solidFill>
                <a:latin typeface="Verdana"/>
              </a:rPr>
              <a:t>- bei Erfahrungsvorsprung im  </a:t>
            </a:r>
            <a:br>
              <a:rPr sz="2900"/>
            </a:br>
            <a:r>
              <a:rPr b="0" lang="de-DE" sz="2900" spc="-1" strike="noStrike">
                <a:solidFill>
                  <a:srgbClr val="000000"/>
                </a:solidFill>
                <a:latin typeface="Verdana"/>
              </a:rPr>
              <a:t>  Gläubigerausschuss u.U. Möglichkeit, </a:t>
            </a:r>
            <a:br>
              <a:rPr sz="2900"/>
            </a:br>
            <a:r>
              <a:rPr b="0" lang="de-DE" sz="2900" spc="-1" strike="noStrike">
                <a:solidFill>
                  <a:srgbClr val="000000"/>
                </a:solidFill>
                <a:latin typeface="Verdana"/>
              </a:rPr>
              <a:t>  eine Linie für bestimmten Verwalter zu</a:t>
            </a:r>
            <a:br>
              <a:rPr sz="2900"/>
            </a:br>
            <a:r>
              <a:rPr b="0" lang="de-DE" sz="2900" spc="-1" strike="noStrike">
                <a:solidFill>
                  <a:srgbClr val="000000"/>
                </a:solidFill>
                <a:latin typeface="Verdana"/>
              </a:rPr>
              <a:t>  finden,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2900" spc="-1" strike="noStrike">
                <a:solidFill>
                  <a:srgbClr val="000000"/>
                </a:solidFill>
                <a:latin typeface="Verdana"/>
              </a:rPr>
              <a:t>- durch Anhörungsrecht und Vorgabe </a:t>
            </a:r>
            <a:br>
              <a:rPr sz="2900"/>
            </a:br>
            <a:r>
              <a:rPr b="0" lang="de-DE" sz="2900" spc="-1" strike="noStrike">
                <a:solidFill>
                  <a:srgbClr val="000000"/>
                </a:solidFill>
                <a:latin typeface="Verdana"/>
              </a:rPr>
              <a:t>  eines Anforderungsprofils wird Einflus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9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de-DE" sz="2900" spc="-1" strike="noStrike">
                <a:solidFill>
                  <a:srgbClr val="000000"/>
                </a:solidFill>
                <a:latin typeface="Verdana"/>
              </a:rPr>
              <a:t>auf Verwalterauswahl gestärkt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900" spc="-1" strike="noStrike">
                <a:solidFill>
                  <a:srgbClr val="000000"/>
                </a:solidFill>
                <a:latin typeface="Verdana"/>
              </a:rPr>
              <a:t>Allgemein ein deutlicher Trend zu konsensualen Lösungen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900" spc="-1" strike="noStrike">
                <a:solidFill>
                  <a:srgbClr val="000000"/>
                </a:solidFill>
                <a:latin typeface="Verdana"/>
              </a:rPr>
              <a:t>Gläubiger und Schuldner werden sehr viel stärker eingebunden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iAG Neubert                                                                      9/20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Ablauf der Verwalterbestellung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4000" y="1827360"/>
            <a:ext cx="8459640" cy="44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700" spc="-1" strike="noStrike">
                <a:solidFill>
                  <a:srgbClr val="000000"/>
                </a:solidFill>
                <a:latin typeface="Verdana"/>
              </a:rPr>
              <a:t>Schuldner  </a:t>
            </a:r>
            <a:r>
              <a:rPr b="0" lang="de-DE" sz="1700" spc="-1" strike="noStrike">
                <a:solidFill>
                  <a:srgbClr val="000000"/>
                </a:solidFill>
                <a:latin typeface="Verdana"/>
              </a:rPr>
              <a:t>---------------------------------------------------</a:t>
            </a:r>
            <a:r>
              <a:rPr b="0" lang="de-DE" sz="1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de-DE" sz="1700" spc="-1" strike="noStrike">
                <a:solidFill>
                  <a:srgbClr val="000000"/>
                </a:solidFill>
                <a:latin typeface="Verdana"/>
              </a:rPr>
              <a:t>Gericht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de-DE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de-DE" sz="17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de-DE" sz="1700" spc="-1" strike="noStrike">
                <a:solidFill>
                  <a:srgbClr val="000000"/>
                </a:solidFill>
                <a:latin typeface="Verdana"/>
              </a:rPr>
              <a:t>Antrag mit</a:t>
            </a:r>
            <a:r>
              <a:rPr b="1" lang="de-DE" sz="17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1700" spc="-1" strike="noStrike">
                <a:solidFill>
                  <a:srgbClr val="000000"/>
                </a:solidFill>
                <a:latin typeface="Verdana"/>
              </a:rPr>
              <a:t>Sachinformationen, Gläubigerlist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700" spc="-1" strike="noStrike">
                <a:solidFill>
                  <a:srgbClr val="000000"/>
                </a:solidFill>
                <a:latin typeface="Verdana"/>
              </a:rPr>
              <a:t>Gericht</a:t>
            </a:r>
            <a:r>
              <a:rPr b="1" lang="de-DE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de-DE" sz="17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de-DE" sz="1700" spc="-1" strike="noStrike">
                <a:solidFill>
                  <a:srgbClr val="000000"/>
                </a:solidFill>
                <a:latin typeface="Verdana"/>
              </a:rPr>
              <a:t>-------------------------------------------------</a:t>
            </a:r>
            <a:r>
              <a:rPr b="0" lang="de-DE" sz="1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17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de-DE" sz="1700" spc="-1" strike="noStrike">
                <a:solidFill>
                  <a:srgbClr val="000000"/>
                </a:solidFill>
                <a:latin typeface="Verdana"/>
              </a:rPr>
              <a:t>Gläubiger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de-DE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de-DE" sz="17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de-DE" sz="1700" spc="-1" strike="noStrike">
                <a:solidFill>
                  <a:srgbClr val="000000"/>
                </a:solidFill>
                <a:latin typeface="Verdana"/>
              </a:rPr>
              <a:t>Bereitschaft zur Mitwirkung in GA erfragen</a:t>
            </a:r>
            <a:r>
              <a:rPr b="0" lang="de-DE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7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lang="de-DE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de-DE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de-DE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de-DE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de-DE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de-DE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de-DE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de-DE" sz="17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700" spc="-1" strike="noStrike">
                <a:solidFill>
                  <a:srgbClr val="000000"/>
                </a:solidFill>
                <a:latin typeface="Verdana"/>
              </a:rPr>
              <a:t>Gläubiger  </a:t>
            </a:r>
            <a:r>
              <a:rPr b="0" lang="de-DE" sz="1700" spc="-1" strike="noStrike">
                <a:solidFill>
                  <a:srgbClr val="000000"/>
                </a:solidFill>
                <a:latin typeface="Verdana"/>
              </a:rPr>
              <a:t>---------------------------------------------------</a:t>
            </a:r>
            <a:r>
              <a:rPr b="0" lang="de-DE" sz="1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de-DE" sz="1700" spc="-1" strike="noStrike">
                <a:solidFill>
                  <a:srgbClr val="000000"/>
                </a:solidFill>
                <a:latin typeface="Verdana"/>
              </a:rPr>
              <a:t>Gericht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de-DE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de-DE" sz="17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de-DE" sz="1700" spc="-1" strike="noStrike">
                <a:solidFill>
                  <a:srgbClr val="000000"/>
                </a:solidFill>
                <a:latin typeface="Verdana"/>
              </a:rPr>
              <a:t>Bereitschaft zur Mitwirkung mitteilen/ablehnen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700" spc="-1" strike="noStrike">
                <a:solidFill>
                  <a:srgbClr val="000000"/>
                </a:solidFill>
                <a:latin typeface="Verdana"/>
              </a:rPr>
              <a:t>Gericht</a:t>
            </a:r>
            <a:r>
              <a:rPr b="1" lang="de-DE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de-DE" sz="17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de-DE" sz="1700" spc="-1" strike="noStrike">
                <a:solidFill>
                  <a:srgbClr val="000000"/>
                </a:solidFill>
                <a:latin typeface="Verdana"/>
              </a:rPr>
              <a:t>---------------------------------------------------</a:t>
            </a:r>
            <a:r>
              <a:rPr b="0" lang="de-DE" sz="1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de-DE" sz="1700" spc="-1" strike="noStrike">
                <a:solidFill>
                  <a:srgbClr val="000000"/>
                </a:solidFill>
                <a:latin typeface="Verdana"/>
              </a:rPr>
              <a:t>Gläubiger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de-DE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de-DE" sz="17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de-DE" sz="1700" spc="-1" strike="noStrike">
                <a:solidFill>
                  <a:srgbClr val="000000"/>
                </a:solidFill>
                <a:latin typeface="Verdana"/>
              </a:rPr>
              <a:t>Bestellung in den Gläubigerausschuss</a:t>
            </a:r>
            <a:r>
              <a:rPr b="0" lang="de-DE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7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7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de-DE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de-DE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de-DE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de-DE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de-DE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de-DE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de-DE" sz="17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700" spc="-1" strike="noStrike">
                <a:solidFill>
                  <a:srgbClr val="000000"/>
                </a:solidFill>
                <a:latin typeface="Verdana"/>
              </a:rPr>
              <a:t>Gläubiger   </a:t>
            </a:r>
            <a:r>
              <a:rPr b="0" lang="de-DE" sz="1700" spc="-1" strike="noStrike">
                <a:solidFill>
                  <a:srgbClr val="000000"/>
                </a:solidFill>
                <a:latin typeface="Verdana"/>
              </a:rPr>
              <a:t>--------------------------------------------------</a:t>
            </a:r>
            <a:r>
              <a:rPr b="1" lang="de-DE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de-DE" sz="1700" spc="-1" strike="noStrike">
                <a:solidFill>
                  <a:srgbClr val="000000"/>
                </a:solidFill>
                <a:latin typeface="Verdana"/>
              </a:rPr>
              <a:t>   Gläubiger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de-DE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de-DE" sz="17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de-DE" sz="1700" spc="-1" strike="noStrike">
                <a:solidFill>
                  <a:srgbClr val="000000"/>
                </a:solidFill>
                <a:latin typeface="Verdana"/>
              </a:rPr>
              <a:t>Konstituierung, Beratung, Beschlussfassung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700" spc="-1" strike="noStrike">
                <a:solidFill>
                  <a:srgbClr val="000000"/>
                </a:solidFill>
                <a:latin typeface="Verdana"/>
              </a:rPr>
              <a:t>Gericht      </a:t>
            </a:r>
            <a:r>
              <a:rPr b="0" lang="de-DE" sz="1700" spc="-1" strike="noStrike">
                <a:solidFill>
                  <a:srgbClr val="000000"/>
                </a:solidFill>
                <a:latin typeface="Verdana"/>
              </a:rPr>
              <a:t>---------------------------------------------------</a:t>
            </a:r>
            <a:r>
              <a:rPr b="0" lang="de-DE" sz="1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17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de-DE" sz="1700" spc="-1" strike="noStrike">
                <a:solidFill>
                  <a:srgbClr val="000000"/>
                </a:solidFill>
                <a:latin typeface="Verdana"/>
              </a:rPr>
              <a:t>vorl. Verw.</a:t>
            </a:r>
            <a:br>
              <a:rPr sz="1700"/>
            </a:br>
            <a:r>
              <a:rPr b="1" lang="de-DE" sz="1700" spc="-1" strike="noStrike">
                <a:solidFill>
                  <a:srgbClr val="000000"/>
                </a:solidFill>
                <a:latin typeface="Verdana"/>
              </a:rPr>
              <a:t>              </a:t>
            </a:r>
            <a:r>
              <a:rPr b="0" lang="de-DE" sz="1700" spc="-1" strike="noStrike">
                <a:solidFill>
                  <a:srgbClr val="000000"/>
                </a:solidFill>
                <a:latin typeface="Verdana"/>
              </a:rPr>
              <a:t>Bestellung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iAG Neubert                                                                      9/20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Mögliche Problem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99640" y="1827360"/>
            <a:ext cx="7993080" cy="44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Diskrepanz zwischen Beteiligungsrechten und vorhandenen Ressourcen bei Schuldner(-Vertretern) und Gläubigern,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Verzögerung des Verfahrens durch vorgeschalteten „Schutzschirm“ und vorläufigen Gläubigerausschuss,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Polarisierung zwischen gut vorbereiteten Sanierungen und ad-hoc-Lösungen,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stark erhöhter Arbeitsaufwand bei den Insolvenzgerichten und institutionellen Gläubiger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iAG Neubert                                                                      9/20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Mögliche Chance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26920" y="1827360"/>
            <a:ext cx="806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Verdana"/>
              </a:rPr>
              <a:t>Entwicklung besserer Strukturen für Sanierungsverfahren:</a:t>
            </a:r>
            <a:br>
              <a:rPr sz="2500"/>
            </a:br>
            <a:r>
              <a:rPr b="0" lang="de-DE" sz="2500" spc="-1" strike="noStrike">
                <a:solidFill>
                  <a:srgbClr val="000000"/>
                </a:solidFill>
                <a:latin typeface="Verdana"/>
              </a:rPr>
              <a:t>- typische Gläubiger als feste Mitglieder</a:t>
            </a:r>
            <a:br>
              <a:rPr sz="2500"/>
            </a:br>
            <a:r>
              <a:rPr b="0" lang="de-DE" sz="2500" spc="-1" strike="noStrike">
                <a:solidFill>
                  <a:srgbClr val="000000"/>
                </a:solidFill>
                <a:latin typeface="Verdana"/>
              </a:rPr>
              <a:t>  des vorläufigen Gläubigerausschusses?</a:t>
            </a:r>
            <a:br>
              <a:rPr sz="2500"/>
            </a:br>
            <a:r>
              <a:rPr b="0" lang="de-DE" sz="2500" spc="-1" strike="noStrike">
                <a:solidFill>
                  <a:srgbClr val="000000"/>
                </a:solidFill>
                <a:latin typeface="Verdana"/>
              </a:rPr>
              <a:t>  ( vgl. § 67 Abs. 3 InsO), </a:t>
            </a:r>
            <a:br>
              <a:rPr sz="2500"/>
            </a:br>
            <a:r>
              <a:rPr b="0" lang="de-DE" sz="2500" spc="-1" strike="noStrike">
                <a:solidFill>
                  <a:srgbClr val="000000"/>
                </a:solidFill>
                <a:latin typeface="Verdana"/>
              </a:rPr>
              <a:t>- häufigerer/engerer Kontakt zwischen </a:t>
            </a:r>
            <a:br>
              <a:rPr sz="2500"/>
            </a:br>
            <a:r>
              <a:rPr b="0" lang="de-DE" sz="2500" spc="-1" strike="noStrike">
                <a:solidFill>
                  <a:srgbClr val="000000"/>
                </a:solidFill>
                <a:latin typeface="Verdana"/>
              </a:rPr>
              <a:t>  Gläubigern und Gerichten,</a:t>
            </a:r>
            <a:br>
              <a:rPr sz="2500"/>
            </a:br>
            <a:r>
              <a:rPr b="0" lang="de-DE" sz="2500" spc="-1" strike="noStrike">
                <a:solidFill>
                  <a:srgbClr val="000000"/>
                </a:solidFill>
                <a:latin typeface="Verdana"/>
              </a:rPr>
              <a:t>- formalisiertes Prozedere für Sanierungen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Verdana"/>
              </a:rPr>
              <a:t>Konsens wird durch mehr Einfluss belohnt,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Verdana"/>
              </a:rPr>
              <a:t>Gerichte können durch Pflichtangaben im Antrag (§ 13 Abs 1 InsO n.F.) sachgerechter agieren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iAG Neubert                                                                      9/20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These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In großen Verfahren werden vorbereitete Paketlösungen mit „gestelltem“ Verwalter der Regelfall werden,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es wird sich ein fester „Insolvenzausschuss“ als Ansprechpartner für das Insolvenzgericht bilden,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die Sanierung von kleineren Firmen wird durch „Schutzschirm-Verfahren“ ohne erfolgversprechenden Plan verzögert und erschwert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iAG Neubert                                                                      9/20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Übersich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1.   Aktuelle Beteiligungsmöglichkeite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1.1 Informelle Beteiligungsmöglichkeite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1.2 Formelle Beteiligungsmöglichkeite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2.   Beteiligungsmöglichkeiten nach dem ESU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2.1 Stand des Gesetzgebungsverfahren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2.2 Geplante Änderungen zur Verwalterbestellu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2.2.1 Direkte Beteiligungsrecht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2.2.2 Mittelbare Beteiligungsrecht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2.3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Folgen für die Praxi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iAG Neubert                                                                      9/20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Vielen Dank für Ihr Interesse!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e haben noch Fragen und Diskussionsbedarf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RiAG Neubert                                                                      9/20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1.1 Informelle Beteiligungsmöglichkeiten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Hintergrundgespräch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allbezogene Gespräch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Mittelbare Einflussmöglichkeite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iAG Neubert                                                                      9/20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Hintergrundgespräch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Häufig am Rande von Tagunge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Vermittlung eigener Vorstellungen vom Anforderungsprofi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Vermittlung von eigenen positiven/negativen Erfahrunge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Rückkopplung von Einschätzunge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nsibel, eher selte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iAG Neubert                                                                      9/20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Fallbezogene Gespräch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m Vorfeld von Verfahren eher schwierig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Vermittlung von Hintergründen zum Verfahren möglich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Darlegung eines Anforderungsprofils häufig akzeptiert,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uch Vorschlag mehrerer Verwalter aufgrund eines Profils möglich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Wunsch nach bestimmtem Verwalter wird kritisch gesehen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iAG Neubert                                                                      9/20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Mittelbare Einflussmöglichkeite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nregung von Vorgesprächen („Detmolder Modell“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„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Vorschieben“ des Schuldners mit Wünsche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Einflussnahme durch Politik und Press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Bestellung von Sanierer in Geschäftsführung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usschluss von Verwaltern durch vorherige Beratungsaufträg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iAG Neubert                                                                      9/20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1.2 Formelle Beteiligungsmöglichkeiten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5280" y="1628280"/>
            <a:ext cx="7931160" cy="50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Verdana"/>
              </a:rPr>
              <a:t>Kein eigenes Antragsrecht in § 56 InsO, auch keine Beschwerdemöglichkeit gegen Verwalter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Verdana"/>
              </a:rPr>
              <a:t>Abwahl/Neubestellung gem. § 57 InsO:</a:t>
            </a:r>
            <a:br>
              <a:rPr sz="2500"/>
            </a:br>
            <a:r>
              <a:rPr b="0" lang="de-DE" sz="2500" spc="-1" strike="noStrike">
                <a:solidFill>
                  <a:srgbClr val="000000"/>
                </a:solidFill>
                <a:latin typeface="Verdana"/>
              </a:rPr>
              <a:t>- nur in 1. Gläubigerversammlung</a:t>
            </a:r>
            <a:br>
              <a:rPr sz="2500"/>
            </a:br>
            <a:r>
              <a:rPr b="0" lang="de-DE" sz="2500" spc="-1" strike="noStrike">
                <a:solidFill>
                  <a:srgbClr val="000000"/>
                </a:solidFill>
                <a:latin typeface="Verdana"/>
              </a:rPr>
              <a:t>- Summen- und Kopfmehrheit erforderlich</a:t>
            </a:r>
            <a:br>
              <a:rPr sz="2500"/>
            </a:br>
            <a:r>
              <a:rPr b="0" lang="de-DE" sz="2500" spc="-1" strike="noStrike">
                <a:solidFill>
                  <a:srgbClr val="000000"/>
                </a:solidFill>
                <a:latin typeface="Verdana"/>
              </a:rPr>
              <a:t>- u.U. Versagung durch Gericht, dagegen</a:t>
            </a:r>
            <a:br>
              <a:rPr sz="2500"/>
            </a:br>
            <a:r>
              <a:rPr b="0" lang="de-DE" sz="2500" spc="-1" strike="noStrike">
                <a:solidFill>
                  <a:srgbClr val="000000"/>
                </a:solidFill>
                <a:latin typeface="Verdana"/>
              </a:rPr>
              <a:t>  Beschwerderecht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Verdana"/>
              </a:rPr>
              <a:t>Antrag auf Entlassung gem. § 59 InsO:</a:t>
            </a:r>
            <a:br>
              <a:rPr sz="2500"/>
            </a:br>
            <a:r>
              <a:rPr b="0" lang="de-DE" sz="2500" spc="-1" strike="noStrike">
                <a:solidFill>
                  <a:srgbClr val="000000"/>
                </a:solidFill>
                <a:latin typeface="Verdana"/>
              </a:rPr>
              <a:t>- nur durch Gläubigerversammlung/</a:t>
            </a:r>
            <a:br>
              <a:rPr sz="2500"/>
            </a:br>
            <a:r>
              <a:rPr b="0" lang="de-DE" sz="2500" spc="-1" strike="noStrike">
                <a:solidFill>
                  <a:srgbClr val="000000"/>
                </a:solidFill>
                <a:latin typeface="Verdana"/>
              </a:rPr>
              <a:t>  -ausschuss, nicht einzelne Gläubiger</a:t>
            </a:r>
            <a:br>
              <a:rPr sz="2500"/>
            </a:br>
            <a:r>
              <a:rPr b="0" lang="de-DE" sz="2500" spc="-1" strike="noStrike">
                <a:solidFill>
                  <a:srgbClr val="000000"/>
                </a:solidFill>
                <a:latin typeface="Verdana"/>
              </a:rPr>
              <a:t>- wichtiger Grund erforderlich</a:t>
            </a:r>
            <a:br>
              <a:rPr sz="2500"/>
            </a:br>
            <a:r>
              <a:rPr b="0" lang="de-DE" sz="2500" spc="-1" strike="noStrike">
                <a:solidFill>
                  <a:srgbClr val="000000"/>
                </a:solidFill>
                <a:latin typeface="Verdana"/>
              </a:rPr>
              <a:t>- Beschwerderecht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iAG Neubert                                                                      9/20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Kritik an derzeitigen Beteiligungsmöglichkeiten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99640" y="1827000"/>
            <a:ext cx="7783560" cy="433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Verdana"/>
              </a:rPr>
              <a:t>Abwahlmöglichkeiten nach spektakulären Verfahren zunächst in 2001 verschärft (doppelte Mehrheit),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Verdana"/>
              </a:rPr>
              <a:t>unter Hinweis auf stärkere Beteiligungs-rechte in ausländischen Verfahren und fehlende Praktikabilität der Abwahl nun Wunsch nach stärkerer Beteiligung bei Erstbestellung,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Verdana"/>
              </a:rPr>
              <a:t>Auswahlentscheidungen von RichterInnen werden als nicht fundiert oder „unberechenbar“ angesehen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iAG Neubert                                                                      9/20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2. Beteiligungsmöglichkeiten nach dem ESUG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8229600" cy="48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2.1 Stand des Gesetzgebungsverfahren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2.2 Geplante Änderungen zur</a:t>
            </a:r>
            <a:br>
              <a:rPr sz="2900"/>
            </a:b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    Verwalterbestellung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2.3 Folgen für die Praxi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iAG Neubert                                                                      9/20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09:12:29Z</dcterms:created>
  <dc:creator>Neubert, Klaus</dc:creator>
  <dc:description/>
  <dc:language>en-US</dc:language>
  <cp:lastModifiedBy>Neubert, Klaus</cp:lastModifiedBy>
  <dcterms:modified xsi:type="dcterms:W3CDTF">2011-09-12T12:51:17Z</dcterms:modified>
  <cp:revision>8</cp:revision>
  <dc:subject/>
  <dc:title>Beteiligung von Gläubigern bei der Verwalterauswahl</dc:title>
</cp:coreProperties>
</file>