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88F-DA84-4465-BD7A-A0601882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E03-1E5C-4A59-B02F-67B29C74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38F-4450-41BB-A02E-736B00BD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6C1-58FD-4B0F-8AB7-F1EE6903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1D6-F71B-4827-8E5F-1A3974FD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A66A-B8A7-45C2-BC05-88D6BB06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AE17-12B6-44FC-9CE1-6A3D55A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2EC8-F7A2-4A1A-A8BB-5E37BA10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96B-0FF3-4818-84CD-A5C20D4B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6766-05D7-4FF7-8C9F-B1649B9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65C1-6E1C-4C36-ADA1-BD76150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57A-A307-4CFB-9AFE-5AC4A04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495-D58E-4543-964F-53B1598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D7C-F96C-4FCD-82BB-88EFCAF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4DC0-265C-45E5-8119-3E16DECD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CB86-D16A-41A6-BFAF-15DE2C98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97FD-AB06-4B52-BEA0-2E6BA6F1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157-EA8B-43F5-81E6-93DA9A26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9E1-32DC-40FD-A4E2-76FB203F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D72-0409-4517-9C40-95257DF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9AD-72B6-43F5-8755-89B422F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ED9-8155-485D-A075-32F7567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308-93A1-4BF5-9B86-BEAA180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22F-D42D-44A5-965D-4A1B730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5E31-A576-43A8-B80F-522AAAC9CD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578-4C4E-4DA0-A5B1-A0E6ABE2EC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teiligung von Gläubigern bei der Verwalterauswah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ktuelle Lage und 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1 Stand des Gesetzgebungsverfahre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egierungsentwurf vom 4.3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ils ablehnende Stellungnahme des Bundesrates vom 15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genäußerung der BReg vom 21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etzesentwurf vom 4.5.2011 (BT-Drucksache 17/5712), in BT eingebracht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m 17.5.201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2. u. 3. Lesung im BT wurden auf Ende Oktober und der abschließender Durchgang im Bundesrat auf Ende November verschob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 Geplante Änderungen zur Verwalterbestell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.2.1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irekte Beteiligungsrecht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ine Änderungen zur jetzigen Lag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 § 56 InsO weiterhin kein eigenes Antragsrecht der Gläubiger hinsichtlich eines bestimmten Verwalters vorgeseh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ein Beschwerderecht wird nicht eingeräum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6 Abs. 1 S. 3 Ziff. 1 InsO n.F. stellt nur klar, dass Gläubigervorschlag unschädlich i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Ziff. 3 auslegungsfähig: Mitwirkung an Plan nur unschädlich, wenn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Beteiligten eingebunden sind? Berufsrechtliche Zulässigkei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7 InsO (Abwahlrecht) wird nicht geände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.2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gene Rechte eines vorläufigen Gläubigerausschusses gem. §§ 22a, 56 Abs. 2 und 3 InsO n.F.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hörungsrecht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forderungsprofil muss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berücksichtigt werden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einstimmiger Vorschlag eines be-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stimmten Verwalters ist bindend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itere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chutzschirmverfahren“ nach § 270 b InsO n.F. gibt </a:t>
            </a:r>
            <a:r>
              <a:rPr b="0" lang="de-DE" sz="2500" spc="-1" strike="noStrike" u="sng">
                <a:solidFill>
                  <a:srgbClr val="000000"/>
                </a:solidFill>
                <a:uFillTx/>
                <a:latin typeface="Verdana"/>
              </a:rPr>
              <a:t>Schuldner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in Auswahlrecht für vorläufigen Sach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 kann gem. §§ 270 b Abs. 2 InsO n.F. auch auch einen vorläufigen Gläubigerausschuss nach § 22 a InsO n.F. bestellen. Fraglich ist, ob dieser auch in die Bestellung des vorläufigen Sachwalters eingebunden ist; § 274 Abs. 1 InsO verweist weiterhin auf § 56 In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3 Folgen für die Prax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zelne Gläubiger haben weiterhin keine Möglichkeit, bestimmte Verwalter zu bestimm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informelle und mittelbare Einflussmög-lichkeiten werden deutlich gestärkt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Einfluss auf Schuldner (§ 270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Abs. 3 Ziff. 3 und 4 InsO n.F.!)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mittelbar Einfluss hinsichtlich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vorläufigem Sachwalt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bei Erfahrungsvorsprung im 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Gläubigerausschuss u.U. Möglichkeit,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 Linie für bestimmten Verwalter zu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find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Anhörungsrecht und Vorgabe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s Anforderungsprofils wird Einflu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uf Verwalterauswahl gestärk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lgemein ein deutlicher Trend zu konsensualen Lösun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läubiger und Schuldner werden sehr viel stärker eingebund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lauf der Verwalterbestel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827360"/>
            <a:ext cx="845964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Schuldn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Antrag mi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Sachinformationen, Gläubigerlis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in GA erfrag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mitteilen/ablehn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 in den Gläubigerausschuss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onstituierung, Beratung, Beschlussfass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orl. Ver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Proble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krepanz zwischen Beteiligungsrechten und vorhandenen Ressourcen bei Schuldner(-Vertretern) und Gläubiger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zögerung des Verfahrens durch vorgeschalteten „Schutzschirm“ und vorläufigen Gläubigerausschu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larisierung zwischen gut vorbereiteten Sanierungen und ad-hoc-Lösunge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rk erhöhter Arbeitsaufwand bei den Insolvenzgerichten und institutionellen Gläubige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Chanc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ntwicklung besserer Strukturen für Sanierungsverfahren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typische Gläubiger als feste Mitglied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des vorläufigen Gläubigerausschusses?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( vgl. § 67 Abs. 3 InsO),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häufigerer/engerer Kontakt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Gläubigern und Gerichten,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formalisiertes Prozedere für Sanieru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onsens wird durch mehr Einfluss belohn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e können durch Pflichtangaben im Antrag (§ 13 Abs 1 InsO n.F.) sachgerechter agie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s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roßen Verfahren werden vorbereitete Paketlösungen mit „gestelltem“ Verwalter der Regelfall wer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 wird sich ein fester „Insolvenzausschuss“ als Ansprechpartner für das Insolvenzgericht bil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e Sanierung von kleineren Firmen wird durch „Schutzschirm-Verfahren“ ohne erfolgversprechenden Plan verzögert und erschwer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  Aktu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1 In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2 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 Beteiligungsmöglichkeiten nach dem ESU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 Geplante Änderungen zur Verwalterbestellu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1 Direkt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2 Mittelbar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lgen für die Prax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Vielen Dank für Ihr Interesse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e haben noch Fragen und Diskussionsbedar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1 In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tergrund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lbezogene 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ttelbare Einflussmöglichkei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ntergrund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äufig am Rande von Tag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eigener Vorstellungen vom Anforderungsprof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eigenen positiven/negativen Erfahr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ückkopplung von Einschätz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bel, eher sel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llbezogene 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 Vorfeld von Verfahren eher schwier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Hintergründen zum Verfahren möglic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rlegung eines Anforderungsprofils häufig akzeptiert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ch Vorschlag mehrerer Verwalter aufgrund eines Profils mögli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unsch nach bestimmtem Verwalter wird kritisch geseh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telbare Einflussmöglichkei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regung von Vorgesprächen („Detmolder Modell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rschieben“ des Schuldners mit Wüns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flussnahme durch Politik und Pres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ellung von Sanierer in Geschäftsführ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schluss von Verwaltern durch vorherige Beratungsaufträ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2 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3116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ein eigenes Antragsrecht in § 56 InsO, auch keine Beschwerdemöglichkeit gegen Ver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/Neubestellung gem. § 57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in 1. Gläubigerversamml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Summen- und Kopfmehrheit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u.U. Versagung durch Gericht, dageg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ntrag auf Entlassung gem. § 59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durch Gläubigerversammlung/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-ausschuss, nicht einzelne Gläubig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wichtiger Grund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itik an derzeitigen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möglichkeiten nach spektakulären Verfahren zunächst in 2001 verschärft (doppelte Mehrheit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Hinweis auf stärkere Beteiligungs-rechte in ausländischen Verfahren und fehlende Praktikabilität der Abwahl nun Wunsch nach stärkerer Beteiligung bei Erstbestellung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uswahlentscheidungen von RichterInnen werden als nicht fundiert oder „unberechenbar“ angeseh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 Beteiligungsmöglichkeiten nach dem ESU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2 Geplante Änderungen zur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Verwalterbestell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3 Folgen für die Pr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9:12:29Z</dcterms:created>
  <dc:creator>Neubert, Klaus</dc:creator>
  <dc:description/>
  <dc:language>en-US</dc:language>
  <cp:lastModifiedBy>Neubert, Klaus</cp:lastModifiedBy>
  <dcterms:modified xsi:type="dcterms:W3CDTF">2011-09-12T12:51:17Z</dcterms:modified>
  <cp:revision>8</cp:revision>
  <dc:subject/>
  <dc:title>Beteiligung von Gläubigern bei der Verwalterauswahl</dc:title>
</cp:coreProperties>
</file>