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127-10B6-4EE8-9AE3-9CDDADD8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83C-2224-4ADD-9E81-77863020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044-7605-4E64-93AF-A53D6268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577-FCC5-4D39-B5FE-04BA5799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18A3-9A9E-429B-942E-F05FD53E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220B-4C07-4C04-900F-4D6C29CA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BCC7-BF04-4C09-A91B-B85530B4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DA55-47A4-439D-B51F-25844909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1F42-260F-41D8-A9B3-985079BC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18E3-44CD-408F-8190-DD542C9C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1B25-ECA6-4BD6-B869-1D47F58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F13-5596-4A88-BC81-FA0724EC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CCE7-533F-45B2-B19C-3640C42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9D5A-4CBC-4AA3-9832-0090AA9F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CB6-B4B2-4D07-A1B9-9D9AEFDF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FA94-8A45-4C91-8D30-A518CF47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54E4-D54D-4762-B4C4-F7C5D3C9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268-1C72-4DCB-A720-56F2206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FA5-54AC-44EA-AE13-84075259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151-93DF-4288-B119-E325AB6B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0DC-D3F1-4969-9B03-1C91C068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C17-35C8-4661-B422-54F1D81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55E-3FBB-4CA2-8BF7-C2C38BD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56B-94AB-46CC-9D0F-79C84884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5082-0930-412A-890D-85082EDDD1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8DD0-AB0F-4D02-8F90-505F2A333D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eteiligung von Gläubigern bei der Verwalterauswah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ktuelle Lage und Ausbli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1 Stand des Gesetzgebungsverfahre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Regierungsentwurf vom 4.3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teils ablehnende Stellungnahme des Bundesrates vom 15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genäußerung der BReg vom 21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setzesentwurf vom 4.5.2011 (BT-Drucksache 17/5712), in BT eingebracht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m 17.5.201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2. u. 3. Lesung im BT wurden auf Ende Oktober und der abschließender Durchgang im Bundesrat auf Ende November verschob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 Geplante Änderungen zur Verwalterbestellu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31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2.2.1 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Direkte Beteiligungsrecht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Keine Änderungen zur jetzigen Lag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In § 56 InsO weiterhin kein eigenes Antragsrecht der Gläubiger hinsichtlich eines bestimmten Verwalters vorgeseh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Auch ein Beschwerderecht wird nicht eingeräum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6 Abs. 1 S. 3 Ziff. 1 InsO n.F. stellt nur klar, dass Gläubigervorschlag unschädlich is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Ziff. 3 auslegungsfähig: Mitwirkung an Plan nur unschädlich, wenn </a:t>
            </a:r>
            <a:r>
              <a:rPr b="0" lang="de-DE" sz="2100" spc="-1" strike="noStrike" u="sng">
                <a:solidFill>
                  <a:srgbClr val="000000"/>
                </a:solidFill>
                <a:uFillTx/>
                <a:latin typeface="Verdana"/>
              </a:rPr>
              <a:t>alle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Beteiligten eingebunden sind? Berufsrechtliche Zulässigkei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7 InsO (Abwahlrecht) wird nicht geänder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.2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gene Rechte eines vorläufigen Gläubigerausschusses gem. §§ 22a, 56 Abs. 2 und 3 InsO n.F.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hörungsrecht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forderungsprofil muss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berücksichtigt werden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einstimmiger Vorschlag eines be-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stimmten Verwalters ist bindend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itere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Schutzschirmverfahren“ nach § 270 b InsO n.F. gibt </a:t>
            </a:r>
            <a:r>
              <a:rPr b="0" lang="de-DE" sz="2500" spc="-1" strike="noStrike" u="sng">
                <a:solidFill>
                  <a:srgbClr val="000000"/>
                </a:solidFill>
                <a:uFillTx/>
                <a:latin typeface="Verdana"/>
              </a:rPr>
              <a:t>Schuldner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ein Auswahlrecht für vorläufigen Sach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 kann gem. §§ 270 b Abs. 2 InsO n.F. auch auch einen vorläufigen Gläubigerausschuss nach § 22 a InsO n.F. bestellen. Fraglich ist, ob dieser auch in die Bestellung des vorläufigen Sachwalters eingebunden ist; § 274 Abs. 1 InsO verweist weiterhin auf § 56 In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2.3 Folgen für die Prax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nzelne Gläubiger haben weiterhin keine Möglichkeit, bestimmte Verwalter zu bestimm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informelle und mittelbare Einflussmög-lichkeiten werden deutlich gestärkt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Einfluss auf Schuldner (§ 270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Abs. 3 Ziff. 3 und 4 InsO n.F.!)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mittelbar Einfluss hinsichtlich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vorläufigem Sachwalter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bei Erfahrungsvorsprung im 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Gläubigerausschuss u.U. Möglichkeit,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 Linie für bestimmten Verwalter zu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find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Anhörungsrecht und Vorgabe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s Anforderungsprofils wird Einflu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uf Verwalterauswahl gestärk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llgemein ein deutlicher Trend zu konsensualen Lösung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Gläubiger und Schuldner werden sehr viel stärker eingebund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blauf der Verwalterbestellu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827360"/>
            <a:ext cx="845964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Schuldn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Antrag mi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Sachinformationen, Gläubigerlis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in GA erfragen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mitteilen/ablehn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 in den Gläubigerausschuss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onstituierung, Beratung, Beschlussfass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vorl. Verw.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Proble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993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skrepanz zwischen Beteiligungsrechten und vorhandenen Ressourcen bei Schuldner(-Vertretern) und Gläubiger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zögerung des Verfahrens durch vorgeschalteten „Schutzschirm“ und vorläufigen Gläubigerausschus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olarisierung zwischen gut vorbereiteten Sanierungen und ad-hoc-Lösunge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tark erhöhter Arbeitsaufwand bei den Insolvenzgerichten und institutionellen Gläubige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Chanc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Entwicklung besserer Strukturen für Sanierungsverfahren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typische Gläubiger als feste Mitglied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des vorläufigen Gläubigerausschusses?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( vgl. § 67 Abs. 3 InsO),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häufigerer/engerer Kontakt zwischen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Gläubigern und Gerichten,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formalisiertes Prozedere für Sanierung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onsens wird durch mehr Einfluss belohnt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e können durch Pflichtangaben im Antrag (§ 13 Abs 1 InsO n.F.) sachgerechter agier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s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großen Verfahren werden vorbereitete Paketlösungen mit „gestelltem“ Verwalter der Regelfall wer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 wird sich ein fester „Insolvenzausschuss“ als Ansprechpartner für das Insolvenzgericht bil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e Sanierung von kleineren Firmen wird durch „Schutzschirm-Verfahren“ ohne erfolgversprechenden Plan verzögert und erschwer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  Aktu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1 In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2 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   Beteiligungsmöglichkeiten nach dem ESU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 Geplante Änderungen zur Verwalterbestellu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1 Direkt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2 Mittelbar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Folgen für die Prax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Vielen Dank für Ihr Interesse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e haben noch Fragen und Diskussionsbedarf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1 In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ntergrund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lbezogene 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ttelbare Einflussmöglichkei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ntergrund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äufig am Rande von Tag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eigener Vorstellungen vom Anforderungsprof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eigenen positiven/negativen Erfahr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ückkopplung von Einschätz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bel, eher sel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llbezogene 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 Vorfeld von Verfahren eher schwier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Hintergründen zum Verfahren möglic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rlegung eines Anforderungsprofils häufig akzeptiert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ch Vorschlag mehrerer Verwalter aufgrund eines Profils mögli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unsch nach bestimmtem Verwalter wird kritisch geseh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ttelbare Einflussmöglichkeit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regung von Vorgesprächen („Detmolder Modell“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rschieben“ des Schuldners mit Wünsch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influssnahme durch Politik und Pres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tellung von Sanierer in Geschäftsführ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sschluss von Verwaltern durch vorherige Beratungsaufträ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2 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3116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ein eigenes Antragsrecht in § 56 InsO, auch keine Beschwerdemöglichkeit gegen Ver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/Neubestellung gem. § 57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in 1. Gläubigerversammlung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Summen- und Kopfmehrheit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u.U. Versagung durch Gericht, dagege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ntrag auf Entlassung gem. § 59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durch Gläubigerversammlung/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-ausschuss, nicht einzelne Gläubig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wichtiger Grund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ritik an derzeitigen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7835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möglichkeiten nach spektakulären Verfahren zunächst in 2001 verschärft (doppelte Mehrheit)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unter Hinweis auf stärkere Beteiligungs-rechte in ausländischen Verfahren und fehlende Praktikabilität der Abwahl nun Wunsch nach stärkerer Beteiligung bei Erstbestellung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uswahlentscheidungen von RichterInnen werden als nicht fundiert oder „unberechenbar“ angeseh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 Beteiligungsmöglichkeiten nach dem ESU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2 Geplante Änderungen zur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Verwalterbestell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3 Folgen für die Prax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9:12:29Z</dcterms:created>
  <dc:creator>Neubert, Klaus</dc:creator>
  <dc:description/>
  <dc:language>en-US</dc:language>
  <cp:lastModifiedBy>Neubert, Klaus</cp:lastModifiedBy>
  <dcterms:modified xsi:type="dcterms:W3CDTF">2011-09-12T12:51:17Z</dcterms:modified>
  <cp:revision>8</cp:revision>
  <dc:subject/>
  <dc:title>Beteiligung von Gläubigern bei der Verwalterauswahl</dc:title>
</cp:coreProperties>
</file>